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A18-82AF-44DC-9BD0-5C41E7DE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57E-3160-4877-80EC-029BDBE1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6D8-09E7-4A8C-87E2-8AE7C250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7FD-8C5D-40D2-AADB-0B1E3202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3EF-2880-47BE-9572-8293148E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564-90D1-4A9B-A512-9300E63E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52C-50EB-471D-89CF-A14D6843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6D8-0338-49AE-A9D1-FD728D8E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ABC-010D-46BC-85DD-6E0E97C3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102-9EA8-45D0-A939-DAB315E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0CA-D968-4691-815F-ED5ADC37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47A-EFA9-48B1-ACFB-C5F9D40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9F6F-BD92-41FD-9791-BFE487D01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Research Sampling (L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4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FDC-3C9F-4018-8B00-D83798FCA9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ket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DSPs have successfully submitted CSV and LS data to LRS Pilot system, and most are continuing to submit data as frequently as a daily ba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s have all started to work on systems to automate transfer of meter reading information (LS) either batched once a week/month or on meter read cycle da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have had a couple of issues resolved recen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DRs on the same sampl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EP helped with standardizing a methodology for all TDSPs on how to produce a LS file that did not have skewed data. Resolution was the multiplier has to be the same for all IDRs on the single sampl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ment Meter Reading information is difficult to separate within a LS transfer file for TD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mentioned that it will take the ownership of separating replacement meter reading data in the TDSP transfer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 to have Tuesday morning LRS status conference call to address any iss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E1A-F11B-4548-93F5-65739C92F6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ket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Installation update as of 10/1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progress in LRS IDR installation, previous report period at ~5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s surpassed 70% installation mil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yland and CNP completed with installations (11 of CNP sample points were not in safe locations and did not have IDR replacement sam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320" y="2370240"/>
            <a:ext cx="904392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787-2C91-40B0-B8F8-F18C6B8763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COT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no significant issues in Pilot to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ut of production environment is on schedule and should be ready for cut-over at the end of this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nor release scheduled for next week to help read database, low risk to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to publish files for CRs this week and help CRs get up to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284-2286-4292-A244-586478567B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kbergman</cp:lastModifiedBy>
  <cp:lastPrinted>2002-09-24T18:27:58Z</cp:lastPrinted>
  <dcterms:modified xsi:type="dcterms:W3CDTF">2004-10-07T15:16:50Z</dcterms:modified>
  <cp:revision>283</cp:revision>
  <dc:subject>RMS</dc:subject>
  <dc:title>ERCOT RMS Update 10-16-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35515971</vt:r8>
  </property>
  <property fmtid="{D5CDD505-2E9C-101B-9397-08002B2CF9AE}" pid="3" name="_AuthorEmail">
    <vt:lpwstr>amarquez@ercot.com</vt:lpwstr>
  </property>
  <property fmtid="{D5CDD505-2E9C-101B-9397-08002B2CF9AE}" pid="4" name="_AuthorEmailDisplayName">
    <vt:lpwstr>Marquez, Adrian</vt:lpwstr>
  </property>
  <property fmtid="{D5CDD505-2E9C-101B-9397-08002B2CF9AE}" pid="5" name="_EmailSubject">
    <vt:lpwstr>RMS Meeting Update</vt:lpwstr>
  </property>
  <property fmtid="{D5CDD505-2E9C-101B-9397-08002B2CF9AE}" pid="6" name="_PreviousAdHocReviewCycleID">
    <vt:r8>1348640867</vt:r8>
  </property>
  <property fmtid="{D5CDD505-2E9C-101B-9397-08002B2CF9AE}" pid="7" name="_ReviewingToolsShownOnce">
    <vt:lpwstr/>
  </property>
</Properties>
</file>